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25BDF-150D-47FA-8BF0-1AD3EE3DE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41357-D70D-41A8-8154-464E3F80C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EF148-A3A3-43B2-A837-8F1318FA4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486C7-9600-4BF6-8CC3-FBFD43EE4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1CEC5-9B13-4E05-9A2D-AA60EE86E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D8240-FFCE-42D7-9913-4F43525B1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DCD14-6CEE-4EAF-B1D5-F9CA5BC7E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AE955-4E1E-4A0B-8C5F-C07502801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73835-DF37-465C-A33B-A48B3B697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435D1-2E97-4A36-A3A5-00971086C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6638C-D057-4097-B895-9DA582E46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A4C83-D0EC-457C-B390-36A8F0C21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0CCF-A62A-4F63-B015-9ED810CB4E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bs.com.au/gold/"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Circus Wide"/>
              </a:rPr>
              <a:t>Bushrangers on the Goldfiel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ircus"/>
              </a:rPr>
              <a:t>By Tommy Nguyen 5 G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Circus Wide"/>
              </a:rPr>
              <a:t>What are Bushranger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ircus Wide"/>
              </a:rPr>
              <a:t>During the 1800’s, there were outlaws known as Bushrangers. They were often seen in the bush and small towns. They were especially seen during the gold rush, because gold miners were often robbed by them. Bushrangers often go in small groups so it was easier to attack or rob smaller amount of people. Some bushrangers were heroes to some, but others were known to do crime.</a:t>
            </a:r>
            <a:r>
              <a:rPr b="0" lang="en-US" sz="2000" spc="-1" strike="noStrike">
                <a:solidFill>
                  <a:srgbClr val="000000"/>
                </a:solidFill>
                <a:latin typeface="Circus Wide"/>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9999"/>
                </a:solidFill>
                <a:latin typeface="Circus Wide"/>
              </a:rPr>
              <a:t>Here are some Bushrangers</a:t>
            </a:r>
            <a:endParaRPr b="0" lang="en-US" sz="4000" spc="-1" strike="noStrike">
              <a:solidFill>
                <a:srgbClr val="000000"/>
              </a:solidFill>
              <a:latin typeface="Arial"/>
            </a:endParaRPr>
          </a:p>
        </p:txBody>
      </p:sp>
      <p:sp>
        <p:nvSpPr>
          <p:cNvPr id="46" name="PlaceHolder 2"/>
          <p:cNvSpPr>
            <a:spLocks noGrp="1"/>
          </p:cNvSpPr>
          <p:nvPr>
            <p:ph/>
          </p:nvPr>
        </p:nvSpPr>
        <p:spPr>
          <a:xfrm>
            <a:off x="0" y="1600200"/>
            <a:ext cx="8686800" cy="5068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Ned Kelly                            </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Alexander Pearce</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Benjamin Hall</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Frank Gardiner</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Andrew George Scott</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Fredrick War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9999"/>
                </a:solidFill>
                <a:latin typeface="Circus"/>
              </a:rPr>
              <a:t>Are there Bushrangers around toda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Currently, there are no bushrangers around toda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 </a:t>
            </a:r>
            <a:r>
              <a:rPr b="0" lang="en-AU" sz="3200" spc="-1" strike="noStrike">
                <a:solidFill>
                  <a:srgbClr val="009999"/>
                </a:solidFill>
                <a:latin typeface="Circus"/>
              </a:rPr>
              <a:t>because more buildings have covered the populated bush areas and now, bushrangers in towns would be preferred as criminals or terror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9999"/>
                </a:solidFill>
                <a:latin typeface="Circus"/>
              </a:rPr>
              <a:t>Why were some Bushrangers hero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During the later years, people tell tales about bushrangers, and children would think they were interesting and they would tell the same story when they have become older and the tale would go on for many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9999"/>
                </a:solidFill>
                <a:latin typeface="Circus"/>
              </a:rPr>
              <a:t>What weapons did Bushrangers u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Bushrangers used:</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Revolvers</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Carbines</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Shotguns</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Kn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9999"/>
                </a:solidFill>
                <a:latin typeface="Circus Wide"/>
              </a:rPr>
              <a:t>What did Bushrangers d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Bushrangers terrorized people and stole goods like gold or jewellery from rich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Circus Wide"/>
              </a:rPr>
              <a:t>Bibliograph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sbs.com.au/go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http://www.sbs.com.au/gold/bushrangers/goldsplash_yes.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04:36:20Z</dcterms:created>
  <dc:creator>tommy_nguyen2</dc:creator>
  <dc:description/>
  <dc:language>en-US</dc:language>
  <cp:lastModifiedBy>tommy_nguyen2</cp:lastModifiedBy>
  <dcterms:modified xsi:type="dcterms:W3CDTF">2010-10-12T01:41:57Z</dcterms:modified>
  <cp:revision>8</cp:revision>
  <dc:subject/>
  <dc:title>Bushrangers on the Goldfields</dc:title>
</cp:coreProperties>
</file>